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45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3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BC6-7132-4D5D-AF79-8E422D90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884-06B2-4AA3-9362-77F6AD0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AE7-F08C-4749-AD96-BFB266A3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5BD-765C-4F09-8A26-3A4BC0AA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3A3-436C-4948-9E38-15297548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D52C-6DF3-46FE-BE26-0DA63E4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376-3782-49E9-926C-F70D2DE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8C9-5FA5-4E4A-B8AA-23BE449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99FF-A21B-4716-82FF-C503062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002-AA62-446B-84E1-DA6FF64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F18B-945F-4631-95CC-0A091347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D0B-E604-4B94-91BC-82218F8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EAAA-198A-4712-A2BF-B66B741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EBAA-4CCB-4F13-934E-B00224D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734-B8C0-4399-AECF-28F904E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2FD-E5E6-4810-91A8-5249822E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B8F2-947A-40DD-8ACE-C7341C7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7CBC-A88F-43BF-B2DE-E97C59BC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AA90-DD28-426F-9C62-39C54210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43C3-A109-4550-82E1-7718B6E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807E-CA5F-4ABE-A8D5-2F2D5E98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433A-80E1-4942-9F83-44E4B05D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4C1-011F-4169-93A1-40AC937E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CDF9-AADE-4A48-9A78-5DE9D1E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9670-B595-46D9-BF70-283AAAB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BAA1-209B-41AA-9E23-14AC29A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25AB-A337-410A-A654-7E88192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85CA-BCF3-4DCB-814A-C2E2C24E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4EBA-6F03-4A60-9B4F-52711F06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07F6-DFC7-4971-B160-92284BBD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1B97-3FA4-43E5-BCEA-F655BB85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63C7-74E7-4096-937E-8AD4AF8B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D2E8-2D35-45A2-AD1C-978DBAC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400-D61E-4DB4-929F-49E3352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883D-CBC1-4131-8DC3-53E16D4A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6C45-1E66-4F1B-BAC8-539AC92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7717-4024-48F2-931D-630C4277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CFA7-98FD-4E02-8F44-D6A48CE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33DE-10DD-4854-8EC6-BB0A25E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831C-EB33-4D2C-8E30-9CC9372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A6E5-F9D8-42BE-A7CE-EB10BD0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2448-C853-4D36-A602-E5DCCD9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952B-BBE5-44A6-B17F-E9E329B6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38AC-F3CB-44DA-B71E-3DCDE498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B6D-9A39-4F56-843D-DEECD864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40D8-D380-4BD7-BD99-94CF897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5878-0EC8-4E98-8162-0BA5E6BD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0E27-C980-4D84-BDD9-B491443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89F0-EF78-43DC-9429-FB957941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63100-9043-4462-9C8E-A3EDB0B5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7BE0-3D88-410E-AC58-3A7D1F8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EEF4-5DD8-46A9-9FD8-24364FD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3A51-047B-4D5A-A4DC-B6CA836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294E-D6CA-4394-AD5D-AE7AD4A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C840-95FB-45F6-A3EA-878F635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3DA-B0FF-44B9-A1E6-2CCC026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A4A3-B897-4BD2-BF53-00C32BF7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BEE-9974-4242-83FA-B133706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E41-BD55-4578-A187-AE4AA4D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622-4F7F-456A-B29A-61DCB4A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A64-0543-4BB9-BF4B-1717AA4961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850-F807-429E-8024-9DAE8F006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3839-246A-4B4C-9E12-058131DF5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B2B-E092-42AC-AFFB-346661A34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F77-EF5C-449E-90AA-C4DAFD46B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gio.net/kazakhstan/american-fla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en.wikipedia.org/wiki/Image:Berlin_Blockade_Milk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lag_of_NATO.svg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en.wikipedia.org/wiki/Image:Flag_of_NATO.svg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itake.se/superpowercoldwarbutton.png&amp;imgrefurl=http://www.itake.se/&amp;h=300&amp;w=300&amp;sz=344&amp;hl=en&amp;start=7&amp;sig2=KVgXFoRqQ9Kmt43zWqznXw&amp;um=1&amp;tbnid=lQeWAn_I3Cyh4M:&amp;tbnh=116&amp;tbnw=116&amp;ei=6QOdR4HnFqD6efy_jM4G&amp;prev=/images%3Fq%3DSuperPower%2BUS%2BUSSR%26svnum%3D10%26um%3D1%26hl%3Den%26rlz%3D1G1GGLQ_ENUS240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Flag_of_the_Chinese_Communist_Party.svg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upload.wikimedia.org/wikipedia/commons/6/66/Naval_Jack_of_the_Republic_of_China.svg" TargetMode="External"/><Relationship Id="rId4" Type="http://schemas.openxmlformats.org/officeDocument/2006/relationships/image" Target="../media/image33.png"/><Relationship Id="rId5" Type="http://schemas.openxmlformats.org/officeDocument/2006/relationships/hyperlink" Target="http://en.wikipedia.org/wiki/Image:Mao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n.wikipedia.org/wiki/Image:Chiang_Kai-shek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winstonchurchillsinewsofpeace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wpclipart.com/signs_symbol/safety_signs/warning_sign.png&amp;imgrefurl=http://www.wpclipart.com/signs_symbol/safety_signs/&amp;h=753&amp;w=1171&amp;sz=26&amp;hl=en&amp;start=11&amp;sig2=zmZe9Lp8KiT03S1VTiL_iQ&amp;um=1&amp;tbnid=ZOmAicQNlOS1iM:&amp;tbnh=96&amp;tbnw=150&amp;ei=kcycR632OKPgeNOR8c0G&amp;prev=/images%3Fq%3Dwarning%2Bsigns%26svnum%3D10%26um%3D1%26hl%3Den%26rlz%3D1G1GGLQ_ENUS240%26sa%3DX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DBE1-92D7-4888-A7B8-2C6063118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685800" y="4952880"/>
            <a:ext cx="7772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igins to 1960</a:t>
            </a:r>
            <a:endParaRPr b="1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1066680" y="228600"/>
            <a:ext cx="677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old War: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2" name="Picture 8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90920"/>
            <a:ext cx="2743200" cy="173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20050705205500_che-guevara-soviet-union-flag-posterflag-4001883%5B1%5D"/>
          <p:cNvPicPr/>
          <p:nvPr/>
        </p:nvPicPr>
        <p:blipFill>
          <a:blip r:embed="rId3"/>
          <a:stretch/>
        </p:blipFill>
        <p:spPr>
          <a:xfrm>
            <a:off x="6248520" y="2514600"/>
            <a:ext cx="2666880" cy="1847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nagasaki_bomb"/>
          <p:cNvPicPr/>
          <p:nvPr/>
        </p:nvPicPr>
        <p:blipFill>
          <a:blip r:embed="rId4"/>
          <a:stretch/>
        </p:blipFill>
        <p:spPr>
          <a:xfrm>
            <a:off x="3505320" y="1752480"/>
            <a:ext cx="2284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108E-0005-4981-8580-5E74B7DC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4B8D-FD45-4932-B476-6497B53C62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16F-6DE4-4730-9F42-A631860A69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Problem with Berlin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rlin was in the Soviet S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lin was not happy with a “small piece” of democracy in Ea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did he do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lift 2"/>
          <p:cNvPicPr/>
          <p:nvPr/>
        </p:nvPicPr>
        <p:blipFill>
          <a:blip r:embed="rId2"/>
          <a:stretch/>
        </p:blipFill>
        <p:spPr>
          <a:xfrm>
            <a:off x="4876920" y="1447920"/>
            <a:ext cx="3933720" cy="464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80F-9EA0-4D52-BECF-5BB46E802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Blockade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9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1948, Stalin attempts to starve West Berliners into sub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rail and street access was block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cossack_road_block_dubasari"/>
          <p:cNvPicPr/>
          <p:nvPr/>
        </p:nvPicPr>
        <p:blipFill>
          <a:blip r:embed="rId1"/>
          <a:stretch/>
        </p:blipFill>
        <p:spPr>
          <a:xfrm>
            <a:off x="2057400" y="3352680"/>
            <a:ext cx="5181480" cy="2963880"/>
          </a:xfrm>
          <a:prstGeom prst="rect">
            <a:avLst/>
          </a:prstGeom>
          <a:ln w="63360">
            <a:solidFill>
              <a:srgbClr val="330066"/>
            </a:solidFill>
            <a:miter/>
          </a:ln>
        </p:spPr>
      </p:pic>
      <p:pic>
        <p:nvPicPr>
          <p:cNvPr id="389" name="Picture 10" descr="soviet_old_soviet_union_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708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soviet_old_soviet_union_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5B9F-CB8F-46F1-A231-6078A128D9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Airlif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erican and British planes flew food and supplies into Berlin for 327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alin lifted the Blockade by May 19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lift 1"/>
          <p:cNvPicPr/>
          <p:nvPr/>
        </p:nvPicPr>
        <p:blipFill>
          <a:blip r:embed="rId1"/>
          <a:stretch/>
        </p:blipFill>
        <p:spPr>
          <a:xfrm>
            <a:off x="4952880" y="1752480"/>
            <a:ext cx="383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3D8-B106-47ED-B8CE-FED56E28E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Berlin-Airliftchildren"/>
          <p:cNvPicPr/>
          <p:nvPr/>
        </p:nvPicPr>
        <p:blipFill>
          <a:blip r:embed="rId1"/>
          <a:stretch/>
        </p:blipFill>
        <p:spPr>
          <a:xfrm>
            <a:off x="0" y="0"/>
            <a:ext cx="4191120" cy="361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7" name="Picture 3" descr="C-47s unloading at Tempelhof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1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8" name="Picture 4" descr="luftbruecke%20copy"/>
          <p:cNvPicPr/>
          <p:nvPr/>
        </p:nvPicPr>
        <p:blipFill>
          <a:blip r:embed="rId3"/>
          <a:stretch/>
        </p:blipFill>
        <p:spPr>
          <a:xfrm>
            <a:off x="0" y="3683160"/>
            <a:ext cx="5105520" cy="317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9" name="Picture 5" descr="Loading milk on a West Berlin-bound plan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352680"/>
            <a:ext cx="2781360" cy="350532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490B-B7FE-4A87-9782-745E94159D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N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orth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A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tlantic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T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eaty </a:t>
            </a:r>
            <a:br>
              <a:rPr sz="4000"/>
            </a:b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O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ganiz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O was established by a treaty in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rganization established a system of collective defense whereby its member states agree to mutual defense in response to an attack by any external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ited States, the United Kingdom, Canada, France, Denmark, Iceland, Italy, Norway, Portugal, Belgium, Netherlands, and Luxembourg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reece (1952), West Germany (1955) join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Flag of NA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Flag of NA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78120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2CC-9BCD-492D-83DC-514F5B8DEF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Warsaw Pac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t Response to 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on May 1, 1955 in 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treaty, which bound its signatories to come to the aid of the others, should any one of them be the victim of foreign ag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bania, Bulgaria, Hungary, East Germany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,  Poland, Rumania, the USSR, and the Czechoslovak Re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communism-5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30492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communism-57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049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7F1E-7541-45E2-B057-22BA326DE2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37F-DCEC-4127-9E81-AB991256B7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7" descr="asia-map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"/>
          <p:cNvSpPr/>
          <p:nvPr/>
        </p:nvSpPr>
        <p:spPr>
          <a:xfrm>
            <a:off x="0" y="6156360"/>
            <a:ext cx="5105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old War in As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8C63-E6BE-48A9-8FBA-C4B5D02673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30066"/>
                </a:solidFill>
                <a:uFillTx/>
                <a:latin typeface="Copperplate Gothic Light"/>
              </a:rPr>
              <a:t>Background: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fter WW II, the US and USSR emerged as rival superp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ach nation was strong enough to greatly influence world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s1936a"/>
          <p:cNvPicPr/>
          <p:nvPr/>
        </p:nvPicPr>
        <p:blipFill>
          <a:blip r:embed="rId1"/>
          <a:stretch/>
        </p:blipFill>
        <p:spPr>
          <a:xfrm>
            <a:off x="4495680" y="3809880"/>
            <a:ext cx="195444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9" name="Picture 7" descr="krushchev"/>
          <p:cNvPicPr/>
          <p:nvPr/>
        </p:nvPicPr>
        <p:blipFill>
          <a:blip r:embed="rId2"/>
          <a:stretch/>
        </p:blipFill>
        <p:spPr>
          <a:xfrm>
            <a:off x="6553080" y="3886200"/>
            <a:ext cx="259092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0" name="Picture 9" descr="harry-truman-picture"/>
          <p:cNvPicPr/>
          <p:nvPr/>
        </p:nvPicPr>
        <p:blipFill>
          <a:blip r:embed="rId3"/>
          <a:stretch/>
        </p:blipFill>
        <p:spPr>
          <a:xfrm>
            <a:off x="0" y="3886200"/>
            <a:ext cx="2097000" cy="2152800"/>
          </a:xfrm>
          <a:prstGeom prst="rect">
            <a:avLst/>
          </a:prstGeom>
          <a:ln w="28440">
            <a:solidFill>
              <a:srgbClr val="330066"/>
            </a:solidFill>
            <a:miter/>
          </a:ln>
        </p:spPr>
      </p:pic>
      <p:pic>
        <p:nvPicPr>
          <p:cNvPr id="351" name="Picture 11" descr="USA-E-Supreme-pF"/>
          <p:cNvPicPr/>
          <p:nvPr/>
        </p:nvPicPr>
        <p:blipFill>
          <a:blip r:embed="rId4"/>
          <a:stretch/>
        </p:blipFill>
        <p:spPr>
          <a:xfrm>
            <a:off x="2179800" y="3809880"/>
            <a:ext cx="213660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2" name="Picture 13" descr="superpowercoldwarbutt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89EB-4B75-4BFC-BCC1-090D8B3EC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0066"/>
                </a:solidFill>
                <a:latin typeface="Copperplate Gothic Light"/>
              </a:rPr>
              <a:t>Struggle for China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o Zedong wanted China to become a communist state after WW I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 Kai Shek fought to stop the communists but was un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2" descr="Image:Flag of the Chinese Communist Part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Image:Naval Jack of the Republic of Chin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Mao Zedo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233440" cy="297180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  <p:pic>
        <p:nvPicPr>
          <p:cNvPr id="427" name="Picture 19" descr="Chiang Kai-she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581280"/>
            <a:ext cx="21574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E83-9DCC-478E-9649-91E2F5D48C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66"/>
                </a:solidFill>
                <a:latin typeface="Copperplate Gothic Light"/>
              </a:rPr>
              <a:t>T</a:t>
            </a: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aiwan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iang Kai-shek, retreated from Mainland China and moved his government from Nanjing to Taipei, Taiwan's largest c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aiwan made a claim they were separate from Chi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ill a problem area tod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visiting-Taiw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visiting-Taiwan-flag"/>
          <p:cNvPicPr/>
          <p:nvPr/>
        </p:nvPicPr>
        <p:blipFill>
          <a:blip r:embed="rId3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taiwan"/>
          <p:cNvPicPr/>
          <p:nvPr/>
        </p:nvPicPr>
        <p:blipFill>
          <a:blip r:embed="rId4"/>
          <a:stretch/>
        </p:blipFill>
        <p:spPr>
          <a:xfrm>
            <a:off x="4800600" y="1600200"/>
            <a:ext cx="383364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s to Maintain American Military 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y levels remained hi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8 revived Selective Servic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ic Energy Com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Security Act 194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C-68 Report (195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253D-DC56-4C7B-8DD3-0FFFDB18E1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Korean War (1950-195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isions of stable,unififed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side left –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7,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agreed to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SR boycotting Security council so no veto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ouglas McArt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mobilization for war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 thwarted 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s of Communism rei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gave permission to MacArthur to push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entered war and UN offensive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wanted to avoi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-MacArthur Controver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7565-9979-4322-9C9F-40F4925442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1AC-53FE-4E1E-9AC8-24D588B9C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old War in America </a:t>
            </a:r>
            <a:r>
              <a:rPr b="0" lang="en-US" sz="3700" spc="-1" strike="noStrike">
                <a:solidFill>
                  <a:srgbClr val="ff0000"/>
                </a:solidFill>
                <a:latin typeface="Copperplate Gothic Light"/>
              </a:rPr>
              <a:t>(1945-1960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re reason to be concerned?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950’s Red S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viet domination of 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hina turned Communist – 1 billion peop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0,000 Americans members of Communist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2" descr="410Q032Q0HL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9D50-AE9B-4E60-9331-FCDF53218C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Loyalty Review Board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up by President Truman in March 194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po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stigate Federal government employees and dismiss those disloyal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12 dismi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50 – McCarran Internal Security Act pa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hiss"/>
          <p:cNvPicPr/>
          <p:nvPr/>
        </p:nvPicPr>
        <p:blipFill>
          <a:blip r:embed="rId1"/>
          <a:stretch/>
        </p:blipFill>
        <p:spPr>
          <a:xfrm>
            <a:off x="4924440" y="1719360"/>
            <a:ext cx="34876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DEDE-1CFE-46A5-ABDC-ACD4261A3C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66"/>
                </a:solidFill>
                <a:latin typeface="Copperplate Gothic Light"/>
              </a:rPr>
              <a:t>House on Un-American Activities Committee (HUAC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4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e Communist influence in the movi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lywood Ten – Black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r Hiss Perjury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" descr="h5A"/>
          <p:cNvPicPr/>
          <p:nvPr/>
        </p:nvPicPr>
        <p:blipFill>
          <a:blip r:embed="rId1"/>
          <a:stretch/>
        </p:blipFill>
        <p:spPr>
          <a:xfrm>
            <a:off x="5257800" y="1676520"/>
            <a:ext cx="3478320" cy="441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7C8F-2B37-4324-916D-9EA1461163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0066"/>
                </a:solidFill>
                <a:latin typeface="Copperplate Gothic Light"/>
              </a:rPr>
              <a:t>The Rosenberg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erican Communists who were found guilty of conspiracy to commit espionage in relation to passing information on the American nuclear bomb to the Soviet Un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ouple were executed at sundown in the electric chair at Sing Sing Correctional Facility in Ossining, New York, on June 19, 1953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rosenbergs"/>
          <p:cNvPicPr/>
          <p:nvPr/>
        </p:nvPicPr>
        <p:blipFill>
          <a:blip r:embed="rId1"/>
          <a:stretch/>
        </p:blipFill>
        <p:spPr>
          <a:xfrm>
            <a:off x="5715000" y="914400"/>
            <a:ext cx="31449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9" name="Picture 10" descr="rosen jail"/>
          <p:cNvPicPr/>
          <p:nvPr/>
        </p:nvPicPr>
        <p:blipFill>
          <a:blip r:embed="rId2"/>
          <a:stretch/>
        </p:blipFill>
        <p:spPr>
          <a:xfrm>
            <a:off x="5029200" y="3809880"/>
            <a:ext cx="3048120" cy="27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E478-6B82-463B-9239-2E05BA923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McCarthyism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or Joe McCarthy became the most famous anti-Communist activ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issue to help win re-election in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ne unsupported accusation afte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uld bully wit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cCarthyism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ctics used to advance your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McCarthy"/>
          <p:cNvPicPr/>
          <p:nvPr/>
        </p:nvPicPr>
        <p:blipFill>
          <a:blip r:embed="rId1"/>
          <a:stretch/>
        </p:blipFill>
        <p:spPr>
          <a:xfrm>
            <a:off x="4756320" y="2021040"/>
            <a:ext cx="382248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1A8-3616-4486-BBAD-333307EA4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pperplate Gothic Light"/>
              </a:rPr>
              <a:t>McCarthy’s Downfa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15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first, no one, not even President Eisenhower challenged h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54 McCarthy made accusations against the US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to televised Senate investigation; and American people did not like McCarthy’s tactics. 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His popularity dropped greatl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Welch-McCarthy"/>
          <p:cNvPicPr/>
          <p:nvPr/>
        </p:nvPicPr>
        <p:blipFill>
          <a:blip r:embed="rId1"/>
          <a:stretch/>
        </p:blipFill>
        <p:spPr>
          <a:xfrm>
            <a:off x="685800" y="3833640"/>
            <a:ext cx="7467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 Conferences – Effects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antic  Charter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ablanca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heran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lta Conference (Feb.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dam Conference (April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532-CBDD-4741-B2FF-EEF80544C4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FB9-8CE5-4A69-94BC-D2761C095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hange in Lead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ly 1950s saw a change in leaders in both the US and US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Dwight Eisenhower wins the election of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P – Richard Ni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cker’s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SS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Nikita Khruschev takes over when Stalin dies in 19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dwight-eisenhower-picture"/>
          <p:cNvPicPr/>
          <p:nvPr/>
        </p:nvPicPr>
        <p:blipFill>
          <a:blip r:embed="rId1"/>
          <a:stretch/>
        </p:blipFill>
        <p:spPr>
          <a:xfrm>
            <a:off x="4876920" y="1676520"/>
            <a:ext cx="226224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2" name="Picture 9" descr="Nikita%20Krushchev"/>
          <p:cNvPicPr/>
          <p:nvPr/>
        </p:nvPicPr>
        <p:blipFill>
          <a:blip r:embed="rId2"/>
          <a:stretch/>
        </p:blipFill>
        <p:spPr>
          <a:xfrm>
            <a:off x="6477120" y="3505320"/>
            <a:ext cx="2419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ED5-7D43-4C95-950F-D44C8CF0AC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Hydrogen Bomb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exploded the 1st H-bomb on November 1, 1952 in South Pacif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t bomb completely destroyed one island and left a crater 175 feet dee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ssians exploded on in August of 195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7" descr="atoll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097-2F2B-4E0C-B26D-C9C8CE9496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8" name="Picture 6" descr="H-bo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AC2-B764-4481-8754-1D0944702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Brinkmanship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ive Reta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as willingness to push nation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brink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uclear war to keep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advocated by John Foster Dulles; Secretary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whos-dulles"/>
          <p:cNvPicPr/>
          <p:nvPr/>
        </p:nvPicPr>
        <p:blipFill>
          <a:blip r:embed="rId1"/>
          <a:stretch/>
        </p:blipFill>
        <p:spPr>
          <a:xfrm>
            <a:off x="5181480" y="1676520"/>
            <a:ext cx="356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481-BE0A-4F20-BD07-AAAE74323E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Space Ra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8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October 4, 1957 the Soviet Union successfully launched Sputnik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's first artificial satellite was about the size of a beach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d the earth in 98 min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200px-Sputnik_asm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5622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8"/>
          <p:cNvSpPr/>
          <p:nvPr/>
        </p:nvSpPr>
        <p:spPr>
          <a:xfrm>
            <a:off x="36576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ace to control space was 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A377-10A9-4F92-AA40-4022A50DA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U-2 Inciden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96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U-2 was designed to be high altitude reconnaissanc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IA used these to spy on USSR and one was shot down on May 1, 196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0" descr="300px-Usaf"/>
          <p:cNvPicPr/>
          <p:nvPr/>
        </p:nvPicPr>
        <p:blipFill>
          <a:blip r:embed="rId1"/>
          <a:stretch/>
        </p:blipFill>
        <p:spPr>
          <a:xfrm>
            <a:off x="1981080" y="3429000"/>
            <a:ext cx="5181840" cy="31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34AE-9D45-4326-BD88-E13A9212A4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Francis Gary Pow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by CIA to fly spy mi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t down  in U2 over USSR and convicted of espio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changed for a KGB colonel the US had capt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Francis Gary Powers"/>
          <p:cNvPicPr/>
          <p:nvPr/>
        </p:nvPicPr>
        <p:blipFill>
          <a:blip r:embed="rId1"/>
          <a:stretch/>
        </p:blipFill>
        <p:spPr>
          <a:xfrm>
            <a:off x="5029200" y="1752480"/>
            <a:ext cx="382896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D39-321D-4160-8917-5DA688D4CE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Conclusion…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Crisis in the Middle East in th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z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into the 1960’s, the Cold War was really starting to heat up with no end in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d War will continue in the 1960s with the world moving closer to an open conflict between the US and US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9" descr="Fidel%20Castro1"/>
          <p:cNvPicPr/>
          <p:nvPr/>
        </p:nvPicPr>
        <p:blipFill>
          <a:blip r:embed="rId1"/>
          <a:stretch/>
        </p:blipFill>
        <p:spPr>
          <a:xfrm>
            <a:off x="5410080" y="1676520"/>
            <a:ext cx="3124440" cy="237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jfk"/>
          <p:cNvPicPr/>
          <p:nvPr/>
        </p:nvPicPr>
        <p:blipFill>
          <a:blip r:embed="rId2"/>
          <a:stretch/>
        </p:blipFill>
        <p:spPr>
          <a:xfrm>
            <a:off x="5105520" y="4114800"/>
            <a:ext cx="29718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CE5-73E0-4EC3-8235-E9B8B03AE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Potsdam Conference</a:t>
            </a:r>
            <a:br>
              <a:rPr sz="4500"/>
            </a:b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July 1945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3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inal wartime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Big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ngland = Att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A = Tru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SR = Sta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talin promised to allow free elections in Eastern Europe – yet never happened (set up satellite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Potsdam 1"/>
          <p:cNvPicPr/>
          <p:nvPr/>
        </p:nvPicPr>
        <p:blipFill>
          <a:blip r:embed="rId1"/>
          <a:stretch/>
        </p:blipFill>
        <p:spPr>
          <a:xfrm>
            <a:off x="4419720" y="1828800"/>
            <a:ext cx="4572000" cy="37368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6FB6-0C17-48F5-86D6-C78B694F9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ontainment Policy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668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e Kennan, career Foreign Serv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ed the policy of “containmen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 would not get rid of communism, but would not allow it to sp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 would “contain” communism where is already exis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man Doct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" descr="Kennan"/>
          <p:cNvPicPr/>
          <p:nvPr/>
        </p:nvPicPr>
        <p:blipFill>
          <a:blip r:embed="rId1"/>
          <a:stretch/>
        </p:blipFill>
        <p:spPr>
          <a:xfrm>
            <a:off x="5486400" y="1752480"/>
            <a:ext cx="327024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95C-476B-46F1-802C-FECA13B65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Iron Curtai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ston Churchill coined this te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mous speech on March 5, 1946 at Westminster College, in Fulton, Missou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ICK for text and video of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300px-Winston_Churchill"/>
          <p:cNvPicPr/>
          <p:nvPr/>
        </p:nvPicPr>
        <p:blipFill>
          <a:blip r:embed="rId2"/>
          <a:stretch/>
        </p:blipFill>
        <p:spPr>
          <a:xfrm>
            <a:off x="5257800" y="1828800"/>
            <a:ext cx="3525840" cy="426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672-221D-4E33-AE9D-A3977F122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A92-78DE-4C0B-AE19-41BB5D1A61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hurchill’s Warning…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urchill felt that behind the Iron Curtain, the USSR was planning to attack and conquer We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ILW1059"/>
          <p:cNvPicPr/>
          <p:nvPr/>
        </p:nvPicPr>
        <p:blipFill>
          <a:blip r:embed="rId1"/>
          <a:stretch/>
        </p:blipFill>
        <p:spPr>
          <a:xfrm>
            <a:off x="4724280" y="1752480"/>
            <a:ext cx="389736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73" name="Picture 14" descr="warning_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724280"/>
            <a:ext cx="2743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50C-44AB-4D2E-B994-02AADE5490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Division of German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7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llies decided to divide Germany into 4 zones after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so, the capital of Berlin was divided into 4 se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next  2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germanyzone"/>
          <p:cNvPicPr/>
          <p:nvPr/>
        </p:nvPicPr>
        <p:blipFill>
          <a:blip r:embed="rId1"/>
          <a:stretch/>
        </p:blipFill>
        <p:spPr>
          <a:xfrm>
            <a:off x="5029200" y="1752480"/>
            <a:ext cx="3573360" cy="434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49:02Z</dcterms:created>
  <dc:creator>Daniel J. Greenberg</dc:creator>
  <dc:description/>
  <dc:language>en-US</dc:language>
  <cp:lastModifiedBy>DMcNamar</cp:lastModifiedBy>
  <dcterms:modified xsi:type="dcterms:W3CDTF">2013-04-01T19:49:17Z</dcterms:modified>
  <cp:revision>88</cp:revision>
  <dc:subject/>
  <dc:title>Slide 1</dc:title>
</cp:coreProperties>
</file>